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977-0009-406D-843A-86CB8CD7DB0A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C50A-22BE-4F86-BA47-281FDA29C2F3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B1A-87EB-4EB8-8C88-E65AC561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A2B-BB8E-43F6-A5EA-1F7255E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1F7-7E35-4316-948C-DDEDD6BF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F84-3DD4-4897-85CD-46C5B251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FE-6CC2-438F-A319-D3F0EB8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724-B44E-4672-9146-81CEEE4E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728-AB0B-4445-9725-3BDA1A4C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17D-C95D-4576-886E-54C5D31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B74-D577-4B4E-8F8F-DB623C00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B38-AECB-4299-BB0B-2CF5CA7D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76F-A044-4336-AC14-336C27C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ECA-40E8-4C45-814F-7B3D03CB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3FD1-3FCF-435E-BC9F-B5F5EFDC6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8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19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10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1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12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32" descr="http://www.themexicobeaches.com/imgs/CancunMexi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990720"/>
            <a:ext cx="708660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ncun  Jeopardy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74880" y="510552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y: Sari Krosch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048400" y="3048120"/>
            <a:ext cx="41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is Spring Break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12760" y="571500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438280" y="380880"/>
            <a:ext cx="4838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802600" y="46483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7-2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95320" y="2057400"/>
            <a:ext cx="66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much of Mexico’s total tourism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venue does Cancun make?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194000" y="57913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2133720" y="380880"/>
            <a:ext cx="4610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20640" y="38098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7440" y="2590920"/>
            <a:ext cx="72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nother name for Spring Break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194000" y="56386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133720" y="380880"/>
            <a:ext cx="4457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819160" y="3962520"/>
            <a:ext cx="24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Brea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56080" y="2666880"/>
            <a:ext cx="53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was Chichen Itza buil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889080" y="60199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186640" y="411480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0 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2438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uring the spring equinox, what animal does the pyramid mak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168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600200" y="22860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43" name="Picture 7" descr="http://upload.wikimedia.org/wikipedia/commons/thumb/9/9a/Chichen_Itza_Temple_of_Kukulcan_Serpent.JPG/220px-Chichen_Itza_Temple_of_Kukulcan_Serpent.JPG"/>
          <p:cNvPicPr/>
          <p:nvPr/>
        </p:nvPicPr>
        <p:blipFill>
          <a:blip r:embed="rId3"/>
          <a:srcRect l="0" t="0" r="0" b="19516"/>
          <a:stretch/>
        </p:blipFill>
        <p:spPr>
          <a:xfrm>
            <a:off x="3962520" y="3505320"/>
            <a:ext cx="4922640" cy="2971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1229400" y="434340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nak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2666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ut how many miles is Chichan Itza from Cancu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19400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2057400" y="380880"/>
            <a:ext cx="5334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2785320" y="457200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04136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2133720" y="380880"/>
            <a:ext cx="48765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89160" y="2514600"/>
            <a:ext cx="83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ch ancient tribe lived in/near Chichen Itz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155680" y="396252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Maya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803680" y="3029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96540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362320" y="380880"/>
            <a:ext cx="46479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ategory 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1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600200" y="2666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Chichen Itza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762120" y="41148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thering place, temple, soccer court, market place, and tow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625120" y="243828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the two sister ci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12760" y="579132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706400" y="358128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isoara, Roman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1981080" y="41911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chita, Kansa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666880" y="2514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many years ago was Cancun deserted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6540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401560" y="472428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 yea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2" descr="http://www.map-of-north-america.us/cancun-beach-63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Rectangle 2"/>
          <p:cNvGrpSpPr/>
          <p:nvPr/>
        </p:nvGrpSpPr>
        <p:grpSpPr>
          <a:xfrm>
            <a:off x="-60480" y="-36360"/>
            <a:ext cx="1717920" cy="2547720"/>
            <a:chOff x="-60480" y="-36360"/>
            <a:chExt cx="1717920" cy="2547720"/>
          </a:xfrm>
        </p:grpSpPr>
        <p:pic>
          <p:nvPicPr>
            <p:cNvPr id="53" name="Rectangle 2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171792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imes New Roman"/>
                </a:rPr>
                <a:t>Geography/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imes New Roman"/>
                </a:rPr>
                <a:t>History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" name="Rectangle 7"/>
          <p:cNvGrpSpPr/>
          <p:nvPr/>
        </p:nvGrpSpPr>
        <p:grpSpPr>
          <a:xfrm>
            <a:off x="2457360" y="-36360"/>
            <a:ext cx="1712880" cy="2547720"/>
            <a:chOff x="2457360" y="-36360"/>
            <a:chExt cx="1712880" cy="2547720"/>
          </a:xfrm>
        </p:grpSpPr>
        <p:pic>
          <p:nvPicPr>
            <p:cNvPr id="56" name="Rectangle 7" descr=""/>
            <p:cNvPicPr/>
            <p:nvPr/>
          </p:nvPicPr>
          <p:blipFill>
            <a:blip r:embed="rId4"/>
            <a:stretch/>
          </p:blipFill>
          <p:spPr>
            <a:xfrm>
              <a:off x="2457360" y="-36360"/>
              <a:ext cx="171288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14600" y="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ourism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Rectangle 8"/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5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" name="Rectangle 11"/>
          <p:cNvGrpSpPr/>
          <p:nvPr/>
        </p:nvGrpSpPr>
        <p:grpSpPr>
          <a:xfrm>
            <a:off x="5089680" y="-36360"/>
            <a:ext cx="1774800" cy="2547720"/>
            <a:chOff x="5089680" y="-36360"/>
            <a:chExt cx="1774800" cy="2547720"/>
          </a:xfrm>
        </p:grpSpPr>
        <p:pic>
          <p:nvPicPr>
            <p:cNvPr id="60" name="Rectangle 11" descr=""/>
            <p:cNvPicPr/>
            <p:nvPr/>
          </p:nvPicPr>
          <p:blipFill>
            <a:blip r:embed="rId6"/>
            <a:stretch/>
          </p:blipFill>
          <p:spPr>
            <a:xfrm>
              <a:off x="5089680" y="-36360"/>
              <a:ext cx="177480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81480" y="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Chichen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Itza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7394400" y="-36360"/>
            <a:ext cx="1816200" cy="2547720"/>
            <a:chOff x="7394400" y="-36360"/>
            <a:chExt cx="1816200" cy="2547720"/>
          </a:xfrm>
        </p:grpSpPr>
        <p:pic>
          <p:nvPicPr>
            <p:cNvPr id="63" name="Rectangle 12" descr=""/>
            <p:cNvPicPr/>
            <p:nvPr/>
          </p:nvPicPr>
          <p:blipFill>
            <a:blip r:embed="rId7"/>
            <a:stretch/>
          </p:blipFill>
          <p:spPr>
            <a:xfrm>
              <a:off x="7394400" y="-36360"/>
              <a:ext cx="181620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467480" y="0"/>
              <a:ext cx="16765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Random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Stuff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20"/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8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514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2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518148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3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47"/>
          <p:cNvSpPr/>
          <p:nvPr/>
        </p:nvSpPr>
        <p:spPr>
          <a:xfrm>
            <a:off x="7467480" y="2438280"/>
            <a:ext cx="1676520" cy="609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4" action="ppaction://hlinksldjump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2514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49"/>
          <p:cNvSpPr/>
          <p:nvPr/>
        </p:nvSpPr>
        <p:spPr>
          <a:xfrm>
            <a:off x="518148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51"/>
          <p:cNvSpPr/>
          <p:nvPr/>
        </p:nvSpPr>
        <p:spPr>
          <a:xfrm>
            <a:off x="7467480" y="3048120"/>
            <a:ext cx="167652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52"/>
          <p:cNvSpPr/>
          <p:nvPr/>
        </p:nvSpPr>
        <p:spPr>
          <a:xfrm>
            <a:off x="518148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54"/>
          <p:cNvSpPr/>
          <p:nvPr/>
        </p:nvSpPr>
        <p:spPr>
          <a:xfrm>
            <a:off x="7467480" y="3733920"/>
            <a:ext cx="167652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55"/>
          <p:cNvSpPr/>
          <p:nvPr/>
        </p:nvSpPr>
        <p:spPr>
          <a:xfrm>
            <a:off x="2514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56"/>
          <p:cNvSpPr/>
          <p:nvPr/>
        </p:nvSpPr>
        <p:spPr>
          <a:xfrm>
            <a:off x="2514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57"/>
          <p:cNvSpPr/>
          <p:nvPr/>
        </p:nvSpPr>
        <p:spPr>
          <a:xfrm>
            <a:off x="518148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59"/>
          <p:cNvSpPr/>
          <p:nvPr/>
        </p:nvSpPr>
        <p:spPr>
          <a:xfrm>
            <a:off x="7467480" y="4495680"/>
            <a:ext cx="167652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60"/>
          <p:cNvSpPr/>
          <p:nvPr/>
        </p:nvSpPr>
        <p:spPr>
          <a:xfrm>
            <a:off x="518148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4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62"/>
          <p:cNvSpPr/>
          <p:nvPr/>
        </p:nvSpPr>
        <p:spPr>
          <a:xfrm>
            <a:off x="7467480" y="5181480"/>
            <a:ext cx="167652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5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63"/>
          <p:cNvSpPr/>
          <p:nvPr/>
        </p:nvSpPr>
        <p:spPr>
          <a:xfrm>
            <a:off x="2514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41360" y="58672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1960" y="2666880"/>
            <a:ext cx="70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biggest danger to touris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2784960" y="403848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lipping on tile flo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041360" y="579132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2758680" y="4038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556360" y="266688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number d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eaches mak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544400" y="266688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average January temp.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965400" y="563868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tegory 5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 p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2720520" y="419112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1</a:t>
            </a:r>
            <a:r>
              <a:rPr b="1" lang="en-US" sz="2800" spc="-1" strike="noStrike" baseline="42000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80880" y="22860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was the name that Cancun was called by the original Maya peopl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041360" y="57913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681920" y="44197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izc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444640" y="335268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hint*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rts with a ‘N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320" y="2209680"/>
            <a:ext cx="60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ch state is Cancun located in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400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450160" y="457200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intana Ro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794680" y="2876400"/>
            <a:ext cx="49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long is Cancun island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41360" y="60199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086280" y="396252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6 m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7200" y="2286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major water form borders Cancun to the north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65400" y="579132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757320" y="426708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ulf of Mexic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23600" y="2438280"/>
            <a:ext cx="78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the peninsula that Cancun is locat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96540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egory 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 pts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514240" y="4267080"/>
            <a:ext cx="34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ucatan Penins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2286000"/>
            <a:ext cx="764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cun has the __</a:t>
            </a:r>
            <a:r>
              <a:rPr b="1" lang="en-US" sz="2800" spc="-1" strike="noStrike" baseline="36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largest coral reef in the worl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965400" y="58672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329"/>
                <a:gd name="adj2" fmla="val -3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616560" y="4343400"/>
            <a:ext cx="6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 baseline="36000">
                <a:solidFill>
                  <a:srgbClr val="000000"/>
                </a:solidFill>
                <a:latin typeface="Tahoma"/>
              </a:rPr>
              <a:t>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346480" y="2419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57200" y="2133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as Cancun Mexico’s first planned tourism community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041360" y="5638680"/>
            <a:ext cx="103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981080" y="304920"/>
            <a:ext cx="4991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egory 2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 pts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216960" y="3962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Owner</cp:lastModifiedBy>
  <dcterms:modified xsi:type="dcterms:W3CDTF">2011-02-18T22:23:02Z</dcterms:modified>
  <cp:revision>39</cp:revision>
  <dc:subject/>
  <dc:title>No Slide Title</dc:title>
</cp:coreProperties>
</file>